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gif" ContentType="image/gif"/>
  <Override PartName="/ppt/media/image1.gif" ContentType="image/gif"/>
  <Override PartName="/ppt/media/image3.jpeg" ContentType="image/jpeg"/>
  <Override PartName="/ppt/media/image15.gif" ContentType="image/gif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2.gif" ContentType="image/gif"/>
  <Override PartName="/ppt/media/image4.gif" ContentType="image/gif"/>
  <Override PartName="/ppt/media/image6.jpeg" ContentType="image/jpeg"/>
  <Override PartName="/ppt/media/image5.gif" ContentType="image/gif"/>
  <Override PartName="/ppt/media/image8.gif" ContentType="image/gi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5925-EAC4-4035-B3A0-007BE212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5BA2-4298-4660-B269-773EEEDF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B15B-1D90-407D-B04D-1A9DBCC2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9150-E231-4D5C-BABE-CD2E052E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D7C3-BBF7-4202-B6B4-C6A874C8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5394-F6D5-4D62-9774-0E07F0C9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E2A3-1B33-492F-BFB4-4FB37B5E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53F9-12DA-4950-8F21-D43B0416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57CB-1F7E-4500-9817-08CD5847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77C5-F16B-415F-87B0-F4575396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502A-7EFB-4BD2-9EAF-273AAC96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F08C-6A76-4FCA-8AC0-13DEEF91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1D1A-78D3-4937-98AA-F9B70D52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107B-4069-4AA9-AD83-3FAD5E4B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413B-9D70-427C-B9B5-881BE292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F19B-EE4A-4F7D-B432-475B8AC7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6652-4490-48C6-A156-755CD8F8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828A-D804-4E24-B7F5-481509EC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1E4-8B1A-4934-869A-8BCFC640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2261-C198-424A-9D42-B04C9423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D08-AF8B-4B27-AAE4-9D5F5898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BD49-97F6-4455-92C3-4849EE07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B811-DFDD-4A9F-AB81-66BCD867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E625-E970-481D-A9DB-051BA8C9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4B27-BDA5-4F27-BEF7-E712B28B7D3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5AB0-391E-4633-8347-A4C7EB392B8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e Smart!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Be Safe!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e Seen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2438280" cy="327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23958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 Smart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 Be Seen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172200" y="4038480"/>
            <a:ext cx="1542960" cy="1371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133720" y="2057400"/>
            <a:ext cx="1066680" cy="1943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85800" y="2057400"/>
            <a:ext cx="11206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5 children die of bicycle injuries every year in NZ!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540 will be hospitalised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3200400" cy="2847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91120" y="2819520"/>
            <a:ext cx="4495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g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umber Injur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0-4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247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5-9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    1009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9-14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    1443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BOY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did you know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41280" y="2057400"/>
            <a:ext cx="2310120" cy="3200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at you are 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times more likely to go to hospital with a cycle related injury the girl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2227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boys were injured in a 5 year period (2001-2005) compared with 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913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girl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OYS!!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800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Nearly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imes as many boys are killed cycling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 the 10 years 1993-2002,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52 children were killed in NZ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ffff00"/>
                </a:solidFill>
                <a:latin typeface="Arial"/>
              </a:rPr>
              <a:t>43 were boys…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ffff00"/>
                </a:solidFill>
                <a:latin typeface="Arial"/>
              </a:rPr>
              <a:t>9 were girls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15000" y="2057400"/>
            <a:ext cx="2162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at are cycle related injuries?</a:t>
            </a: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Starship Hospital tracked cycle injuries over a 6 month perio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pper limb fractur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6%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ower limb fractur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8%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ace and neck injuri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4%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ad injuri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2%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bdominal injuri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9%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ther-skin and lung injuri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d Injuries includ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kull fractur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cuss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tracranial inju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calp lacer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3067200" cy="2666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lways wear your helmet when on your bike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earing a helmet reduces the risk of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rain injury by 88%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ead injury by 85%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re brain injury by at least 75%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791320" y="1828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asons why kids don’t wear helmets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85680" y="1905120"/>
            <a:ext cx="3281400" cy="3886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95680" y="1828800"/>
            <a:ext cx="4191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Nobody gave me 1! 17%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 don’t road in traffic. 15%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Unattractive. 5%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 don’t ride often. 9%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oo expensive. 7%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Uncomfortable. 9%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 took it off. 16%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Not necessary. 21%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Never thought about it. 22%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2-4-1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91040" y="2419200"/>
            <a:ext cx="2838240" cy="2857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4838760" cy="3867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0:05:15Z</dcterms:created>
  <dc:creator>Educating NZ</dc:creator>
  <dc:description/>
  <dc:language>en-US</dc:language>
  <cp:lastModifiedBy>Educating NZ</cp:lastModifiedBy>
  <dcterms:modified xsi:type="dcterms:W3CDTF">2008-06-02T21:35:37Z</dcterms:modified>
  <cp:revision>4</cp:revision>
  <dc:subject/>
  <dc:title>Slide 1</dc:title>
</cp:coreProperties>
</file>